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alligator.wav" ContentType="audio/x-wav"/>
  <Override PartName="/ppt/media/image12.png" ContentType="image/png"/>
  <Override PartName="/ppt/media/024believe.wav" ContentType="audio/x-wav"/>
  <Override PartName="/ppt/media/image8.png" ContentType="image/png"/>
  <Override PartName="/ppt/media/WHOOSH.WAV" ContentType="audio/x-wav"/>
  <Override PartName="/ppt/media/image4.png" ContentType="image/png"/>
  <Override PartName="/ppt/media/all2easy.wav" ContentType="audio/x-wav"/>
  <Override PartName="/ppt/media/image5.wmf" ContentType="image/x-wmf"/>
  <Override PartName="/ppt/media/image6.png" ContentType="image/png"/>
  <Override PartName="/ppt/media/028hooboy.wav" ContentType="audio/x-wav"/>
  <Override PartName="/ppt/media/image14.wmf" ContentType="image/x-wmf"/>
  <Override PartName="/ppt/media/look_good.wav" ContentType="audio/x-wav"/>
  <Override PartName="/ppt/media/image11.png" ContentType="image/png"/>
  <Override PartName="/ppt/media/lizard.wav" ContentType="audio/x-wav"/>
  <Override PartName="/ppt/media/image15.wmf" ContentType="image/x-wmf"/>
  <Override PartName="/ppt/media/image7.png" ContentType="image/png"/>
  <Override PartName="/ppt/media/image16.png" ContentType="image/png"/>
  <Override PartName="/ppt/media/image3.jpeg" ContentType="image/jpeg"/>
  <Override PartName="/ppt/media/047blowme.wav" ContentType="audio/x-wav"/>
  <Override PartName="/ppt/media/confusing.wav" ContentType="audio/x-wav"/>
  <Override PartName="/ppt/media/image1.wmf" ContentType="image/x-wmf"/>
  <Override PartName="/ppt/media/009well.wav" ContentType="audio/x-wav"/>
  <Override PartName="/ppt/media/image2.png" ContentType="image/png"/>
  <Override PartName="/ppt/media/meow2.wav" ContentType="audio/x-wav"/>
  <Override PartName="/ppt/media/APPLAUSE.WAV" ContentType="audio/x-wav"/>
  <Override PartName="/ppt/media/image9.png" ContentType="image/png"/>
  <Override PartName="/ppt/media/halleluja.wav" ContentType="audio/x-wav"/>
  <Override PartName="/ppt/media/image10.jpeg" ContentType="image/jpeg"/>
  <Override PartName="/ppt/media/DRUMROLL.WAV" ContentType="audio/x-wav"/>
  <Override PartName="/ppt/media/operational.wav" ContentType="audio/x-wav"/>
  <Override PartName="/ppt/media/away_we_go.wav" ContentType="audio/x-wav"/>
  <Override PartName="/ppt/media/flintston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831-85A7-4B44-83D5-CE9C77B0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34B-D5D8-4F89-8050-67B8AF9E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8A00-EC97-4D17-8E29-3170D03F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6D3-C5BA-42FB-8FB2-BBAD8EE9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DF7-D8CE-4D20-B00F-CC86FF0F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FACA-D590-4BA3-8B6C-E5AFD04F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98B-CDA3-4B6E-B9A5-9B2F2113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F3D4-229F-41D8-A1E1-1A2F7FE6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B0A-3321-4402-BE3A-549FA804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960-A2ED-4D21-8911-A5EDC581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A4F-908B-4BA9-862F-B533B356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138E-E1BA-4004-893A-E69677F2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A37C-23E9-43AA-A758-4C0BC779C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024believ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028hooboy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halleluj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flintston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028hooboy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operational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028hooboy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look_good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audio" Target="../media/alligato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onfusing.wav"/><Relationship Id="rId3" Type="http://schemas.openxmlformats.org/officeDocument/2006/relationships/audio" Target="../media/away_we_go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028hooboy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ll2easy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audio" Target="../media/047blowm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audio" Target="../media/lizard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028hooboy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009we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meow2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028hooboy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914400" y="312408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VERBally SPEAK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86920" y="606096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Carol Rom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1971720" cy="2571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house"/>
          <p:cNvPicPr/>
          <p:nvPr/>
        </p:nvPicPr>
        <p:blipFill>
          <a:blip r:embed="rId1"/>
          <a:stretch/>
        </p:blipFill>
        <p:spPr>
          <a:xfrm>
            <a:off x="838080" y="457200"/>
            <a:ext cx="3238560" cy="4191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4192200" y="1600200"/>
            <a:ext cx="244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ur hou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 hau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y a ghos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94720" y="5559480"/>
            <a:ext cx="13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794760" y="5483160"/>
            <a:ext cx="128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h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766200" y="5483160"/>
            <a:ext cx="17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u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7" descr="2s"/>
          <p:cNvPicPr/>
          <p:nvPr/>
        </p:nvPicPr>
        <p:blipFill>
          <a:blip r:embed="rId2"/>
          <a:stretch/>
        </p:blipFill>
        <p:spPr>
          <a:xfrm>
            <a:off x="7238880" y="304920"/>
            <a:ext cx="137160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24belie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647800" y="690480"/>
            <a:ext cx="3848400" cy="5478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671040" y="431640"/>
            <a:ext cx="167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op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40280" y="4232160"/>
            <a:ext cx="25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HAU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028hooboy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teach-pencil"/>
          <p:cNvPicPr/>
          <p:nvPr/>
        </p:nvPicPr>
        <p:blipFill>
          <a:blip r:embed="rId1"/>
          <a:stretch/>
        </p:blipFill>
        <p:spPr>
          <a:xfrm>
            <a:off x="2919240" y="1714680"/>
            <a:ext cx="3305520" cy="3429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3202560" y="154080"/>
            <a:ext cx="302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IGHT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halleluj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toc1on"/>
          <p:cNvPicPr/>
          <p:nvPr/>
        </p:nvPicPr>
        <p:blipFill>
          <a:blip r:embed="rId1"/>
          <a:stretch/>
        </p:blipFill>
        <p:spPr>
          <a:xfrm>
            <a:off x="5334120" y="380880"/>
            <a:ext cx="2730240" cy="5105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369800" y="1676520"/>
            <a:ext cx="2932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d danc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night 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ar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35320" y="5715000"/>
            <a:ext cx="111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277080" y="571500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nc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6157440" y="57117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lintston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47800" y="690480"/>
            <a:ext cx="3848400" cy="5478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671040" y="431640"/>
            <a:ext cx="167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op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0280" y="4232160"/>
            <a:ext cx="25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DAN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028hooboy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teach-pencil"/>
          <p:cNvPicPr/>
          <p:nvPr/>
        </p:nvPicPr>
        <p:blipFill>
          <a:blip r:embed="rId1"/>
          <a:stretch/>
        </p:blipFill>
        <p:spPr>
          <a:xfrm>
            <a:off x="2919240" y="1714680"/>
            <a:ext cx="330552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3202560" y="154080"/>
            <a:ext cx="302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IGHT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robot"/>
          <p:cNvPicPr/>
          <p:nvPr/>
        </p:nvPicPr>
        <p:blipFill>
          <a:blip r:embed="rId1"/>
          <a:stretch/>
        </p:blipFill>
        <p:spPr>
          <a:xfrm>
            <a:off x="2438280" y="304920"/>
            <a:ext cx="2057400" cy="4952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omputer"/>
          <p:cNvPicPr/>
          <p:nvPr/>
        </p:nvPicPr>
        <p:blipFill>
          <a:blip r:embed="rId2"/>
          <a:stretch/>
        </p:blipFill>
        <p:spPr>
          <a:xfrm>
            <a:off x="228600" y="457200"/>
            <a:ext cx="1905120" cy="1962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5396040" y="1063800"/>
            <a:ext cx="3199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ur 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ilt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 comput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y itsel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19120" y="56358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870720" y="5559480"/>
            <a:ext cx="11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i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309720" y="5483160"/>
            <a:ext cx="125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perationa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647800" y="690480"/>
            <a:ext cx="3848400" cy="5478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671040" y="431640"/>
            <a:ext cx="167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op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40280" y="4232160"/>
            <a:ext cx="25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bui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28hoobo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teach-pencil"/>
          <p:cNvPicPr/>
          <p:nvPr/>
        </p:nvPicPr>
        <p:blipFill>
          <a:blip r:embed="rId1"/>
          <a:stretch/>
        </p:blipFill>
        <p:spPr>
          <a:xfrm>
            <a:off x="2919240" y="1714680"/>
            <a:ext cx="3305520" cy="3429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202560" y="154080"/>
            <a:ext cx="302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IGHT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look_good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LLIGATO"/>
          <p:cNvPicPr/>
          <p:nvPr/>
        </p:nvPicPr>
        <p:blipFill>
          <a:blip r:embed="rId1"/>
          <a:stretch/>
        </p:blipFill>
        <p:spPr>
          <a:xfrm>
            <a:off x="4724280" y="1066680"/>
            <a:ext cx="3657600" cy="358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95280" y="914400"/>
            <a:ext cx="1648080" cy="7430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8040" y="2739960"/>
            <a:ext cx="2792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llig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ushes 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e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42080" y="5711760"/>
            <a:ext cx="116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e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565800" y="5635800"/>
            <a:ext cx="187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ig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538680" y="5635800"/>
            <a:ext cx="173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us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lligator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510840" y="324000"/>
            <a:ext cx="7764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IONS:  When a slide with a sent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,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cl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ywhere and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ice.  If a           shows, click on it to go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xt sl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666880" y="1371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19120" y="3807000"/>
            <a:ext cx="33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you read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mputer-owl"/>
          <p:cNvPicPr/>
          <p:nvPr/>
        </p:nvPicPr>
        <p:blipFill>
          <a:blip r:embed="rId1"/>
          <a:stretch/>
        </p:blipFill>
        <p:spPr>
          <a:xfrm>
            <a:off x="4267080" y="2666880"/>
            <a:ext cx="2362320" cy="2819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onfusin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way_we_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647800" y="690480"/>
            <a:ext cx="3848400" cy="5478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671040" y="431640"/>
            <a:ext cx="167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op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40280" y="4232160"/>
            <a:ext cx="25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bru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>
            <a:hlinkClick r:id="" action="ppaction://hlinkshowjump?jump=la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028hooboy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teach-pencil"/>
          <p:cNvPicPr/>
          <p:nvPr/>
        </p:nvPicPr>
        <p:blipFill>
          <a:blip r:embed="rId1"/>
          <a:stretch/>
        </p:blipFill>
        <p:spPr>
          <a:xfrm>
            <a:off x="2919240" y="1714680"/>
            <a:ext cx="3305520" cy="3429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202560" y="154080"/>
            <a:ext cx="302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IGHT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all2easy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6096240" cy="5867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2959200" y="1717560"/>
            <a:ext cx="31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: A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A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star44"/>
          <p:cNvPicPr/>
          <p:nvPr/>
        </p:nvPicPr>
        <p:blipFill>
          <a:blip r:embed="rId2"/>
          <a:stretch/>
        </p:blipFill>
        <p:spPr>
          <a:xfrm>
            <a:off x="4267080" y="26668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3409560" y="3927600"/>
            <a:ext cx="33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s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47blow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594000" y="149400"/>
            <a:ext cx="7663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ows a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aseball playe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hi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e ba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t is the verb and tells you what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yer di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baseb"/>
          <p:cNvPicPr/>
          <p:nvPr/>
        </p:nvPicPr>
        <p:blipFill>
          <a:blip r:embed="rId1"/>
          <a:stretch/>
        </p:blipFill>
        <p:spPr>
          <a:xfrm>
            <a:off x="3733920" y="2590920"/>
            <a:ext cx="3035160" cy="3352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439560" y="6213600"/>
            <a:ext cx="43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A verb is something you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eko"/>
          <p:cNvPicPr/>
          <p:nvPr/>
        </p:nvPicPr>
        <p:blipFill>
          <a:blip r:embed="rId1"/>
          <a:stretch/>
        </p:blipFill>
        <p:spPr>
          <a:xfrm>
            <a:off x="2743200" y="1371600"/>
            <a:ext cx="3657600" cy="2971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815040" y="252360"/>
            <a:ext cx="71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zard crawled on the roc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747720" y="5635800"/>
            <a:ext cx="10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795120" y="563580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liz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843960" y="5635800"/>
            <a:ext cx="178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aw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iza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47800" y="690480"/>
            <a:ext cx="3848400" cy="5478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71040" y="431640"/>
            <a:ext cx="167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op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40280" y="4232160"/>
            <a:ext cx="25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CRAW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28hoobo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teach-pencil"/>
          <p:cNvPicPr/>
          <p:nvPr/>
        </p:nvPicPr>
        <p:blipFill>
          <a:blip r:embed="rId1"/>
          <a:stretch/>
        </p:blipFill>
        <p:spPr>
          <a:xfrm>
            <a:off x="2919240" y="1714680"/>
            <a:ext cx="3305520" cy="3429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3202560" y="154080"/>
            <a:ext cx="302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IGHT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009we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1067760" y="1523880"/>
            <a:ext cx="2748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grey c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tched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own do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42440" y="5483160"/>
            <a:ext cx="18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871440" y="54072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157080" y="540720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trash"/>
          <p:cNvPicPr/>
          <p:nvPr/>
        </p:nvPicPr>
        <p:blipFill>
          <a:blip r:embed="rId1"/>
          <a:stretch/>
        </p:blipFill>
        <p:spPr>
          <a:xfrm>
            <a:off x="4419720" y="612720"/>
            <a:ext cx="4724280" cy="3460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eow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647800" y="690480"/>
            <a:ext cx="3848400" cy="54784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671040" y="431640"/>
            <a:ext cx="167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op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40280" y="4232160"/>
            <a:ext cx="25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W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028hooboy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teach-pencil"/>
          <p:cNvPicPr/>
          <p:nvPr/>
        </p:nvPicPr>
        <p:blipFill>
          <a:blip r:embed="rId1"/>
          <a:stretch/>
        </p:blipFill>
        <p:spPr>
          <a:xfrm>
            <a:off x="2919240" y="1714680"/>
            <a:ext cx="3305520" cy="3429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3202560" y="154080"/>
            <a:ext cx="302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IGHT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30T13:25:24Z</dcterms:created>
  <dc:creator>NMS</dc:creator>
  <dc:description/>
  <dc:language>en-US</dc:language>
  <cp:lastModifiedBy>teacher</cp:lastModifiedBy>
  <dcterms:modified xsi:type="dcterms:W3CDTF">2010-11-01T00:33:49Z</dcterms:modified>
  <cp:revision>14</cp:revision>
  <dc:subject/>
  <dc:title>No Slide Title</dc:title>
</cp:coreProperties>
</file>